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E63A-78E9-4A68-8F61-964E04124D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33A0-B25C-48FB-8A11-66CBCD4D75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7F4-7E4A-4DDA-BF83-554E3E57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A7EA-1F7D-417E-B5AA-0B8B00A4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491-EB43-4CB1-93FB-34B3E3C9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735-7E5B-40E9-9545-8B3AE49F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044-00C9-4314-B8CC-52715327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05C6-7531-4D8E-B0BB-BAA19F6A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F59-9B6C-4D4F-85F5-8E8A9EBA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844-F1AE-4FD2-9ACB-5816884F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FB9-142C-4958-8F23-E2A33149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7CF-F474-4E69-B0BF-EC2E2E8C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CE0-4468-468C-BC08-F857C26A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47D-4284-4B35-8EEC-44AD2699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A511-2CC2-4AEC-BD45-CCB05FA35FD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7493040" cy="128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547040" cy="146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6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дагогическая лаборатория учителя (в формате презентации на педагогическом совете/ методическом семинаре / М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Это важн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ните, что учебное занятие должно раскрывать основные положения Вашего выступления на этапе «Педагогическая лаборатория учителя», в некоторой степени иллюстрировать 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 пред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4153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этап «Методический семинар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курсные задания в номинации «Педагогический дебют - 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разовательный про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ческий дебют –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минации могут принимать участие учителя-предметники образовательных организаций со стажем работы от 0 до 5 л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культуры проектирования в образовании, видения существующих проблем и путей их решения, умения продуктивно работать в команде и выстраивать конструктивное взаимоде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т конкурсного зад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руппы из 4 конкурсантов (состав определяется жребием) в течение 15 минут проводят обсуждение и выбирают тему образовательного проекта, распределяют зоны ответственности каждого члена команды. Группы получают не менее 1 часа для разработки образовательного проекта и его оформления в электронном и/или другом формате. Для представления образовательного проекта на сцене группа получает 20 минут и в течение 10 минут отвечает на вопросы жю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конкурсного зад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онная и языковая культур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 реалистичность реше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и оригинальность в представлении про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ные мероприятия 2 тура. Педагогическая лаборатория учителя (регламент до 12 минут, включая вопрос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темо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, 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методической т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Лариса Сомова</cp:lastModifiedBy>
  <dcterms:modified xsi:type="dcterms:W3CDTF">2015-12-29T23:25:59Z</dcterms:modified>
  <cp:revision>46</cp:revision>
  <dc:subject/>
  <dc:title>Представление опыта</dc:title>
</cp:coreProperties>
</file>